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5.jpeg" ContentType="image/jpeg"/>
  <Override PartName="/ppt/media/image30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C28E-7A33-4000-862E-0A4E9A83913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FEAF-19A9-4B3D-952E-22E0D13DCAB0}" type="slidenum">
              <a:rPr b="0" lang="en-GB" sz="1200" spc="-1" strike="noStrike">
                <a:solidFill>
                  <a:srgbClr val="000000"/>
                </a:solidFill>
                <a:latin typeface="DejaVu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912A-59F5-4DDF-9ED1-F4C9F6243AF8}" type="slidenum">
              <a:rPr b="0" lang="en-GB" sz="1200" spc="-1" strike="noStrike">
                <a:solidFill>
                  <a:srgbClr val="000000"/>
                </a:solidFill>
                <a:latin typeface="DejaVu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BB44-46DB-4780-B3BD-42D42E2EBDCF}" type="slidenum">
              <a:rPr b="0" lang="en-GB" sz="1200" spc="-1" strike="noStrike">
                <a:solidFill>
                  <a:srgbClr val="000000"/>
                </a:solidFill>
                <a:latin typeface="DejaVu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BFEF-C682-4549-AB79-28E9827D9B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45DC-4F01-4848-A7D7-B1818E9D09E5}" type="slidenum">
              <a:rPr b="0" lang="en-GB" sz="1200" spc="-1" strike="noStrike">
                <a:solidFill>
                  <a:srgbClr val="000000"/>
                </a:solidFill>
                <a:latin typeface="DejaVu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5952-7E67-40E3-B956-A600DEDE531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97F7-BF68-4B16-92F8-D20A82EE823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C2E8-6B64-43CD-8138-6693C54CE0A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5298-19A6-469D-9EB4-F4E480DC11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47C5-CA5F-4AFA-B9AA-C72C1FBE89EA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CE8E-B584-4B8A-B2A2-B38D8212C809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2787-41D0-4147-B1C9-D07C41F9074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025F-89A2-48A6-8ACC-3FF539CAAF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140D-0D5A-4F27-83EE-6C571AC9F7E8}" type="slidenum">
              <a:rPr b="0" lang="en-GB" sz="1200" spc="-1" strike="noStrike">
                <a:solidFill>
                  <a:srgbClr val="000000"/>
                </a:solidFill>
                <a:latin typeface="DejaVu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830-9CA0-4899-A9E3-52926F1D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DE3-7DDD-434F-A77D-684E6835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C601-A6E6-47AC-8FA1-8CAA3346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0D50-F11B-481F-A2D9-1603A69B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685-FCE1-4533-8329-5427B7BF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361-CC60-48C5-97D8-F8AD4547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F037-4B9D-44B9-84C2-CAB57A75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47C5-7FCC-4276-806E-B0A36811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CD9-E932-4600-80D7-FDF33157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D6E8-E9E8-49CD-B221-D9B5DB89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28A-834F-4114-B4CC-8A369C5C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31C-57CD-4BAA-B147-AF8A8455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EB4F-6217-4F34-8417-C98672EE65E1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2.jpe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4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eforestation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op-down Modelling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a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0480" y="76320"/>
            <a:ext cx="90835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5" descr=""/>
          <p:cNvPicPr/>
          <p:nvPr/>
        </p:nvPicPr>
        <p:blipFill>
          <a:blip r:embed="rId1"/>
          <a:srcRect l="27162" t="28452" r="1949" b="19185"/>
          <a:stretch/>
        </p:blipFill>
        <p:spPr>
          <a:xfrm>
            <a:off x="588960" y="1776240"/>
            <a:ext cx="4038480" cy="293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Picture 17" descr=""/>
          <p:cNvPicPr/>
          <p:nvPr/>
        </p:nvPicPr>
        <p:blipFill>
          <a:blip r:embed="rId2"/>
          <a:srcRect l="27162" t="28045" r="1949" b="19550"/>
          <a:stretch/>
        </p:blipFill>
        <p:spPr>
          <a:xfrm>
            <a:off x="4917960" y="1776240"/>
            <a:ext cx="4038840" cy="293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184" name="AutoShape 25"/>
          <p:cNvCxnSpPr/>
          <p:nvPr/>
        </p:nvCxnSpPr>
        <p:spPr>
          <a:xfrm flipH="1" rot="16200000">
            <a:off x="3102120" y="4008240"/>
            <a:ext cx="930960" cy="2334240"/>
          </a:xfrm>
          <a:prstGeom prst="bentConnector3">
            <a:avLst>
              <a:gd name="adj1" fmla="val 4998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85" name="AutoShape 26"/>
          <p:cNvCxnSpPr/>
          <p:nvPr/>
        </p:nvCxnSpPr>
        <p:spPr>
          <a:xfrm rot="5400000">
            <a:off x="5425200" y="4018320"/>
            <a:ext cx="930960" cy="2314800"/>
          </a:xfrm>
          <a:prstGeom prst="bentConnector3">
            <a:avLst>
              <a:gd name="adj1" fmla="val 4998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Simple Deman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548160" y="5664240"/>
            <a:ext cx="2361960" cy="86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Demand sub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3117960" y="47829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Difference betwee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0480" y="76320"/>
            <a:ext cx="90835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7092000" y="1465200"/>
            <a:ext cx="142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Humnst777 BT"/>
                <a:ea typeface="Arial"/>
              </a:rPr>
              <a:t>Potential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532080" y="1066680"/>
            <a:ext cx="149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Humnst777 BT"/>
                <a:ea typeface="Arial"/>
              </a:rPr>
              <a:t>Driv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768240" y="6357960"/>
            <a:ext cx="2041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Humnst777 BT"/>
                <a:ea typeface="Arial"/>
              </a:rPr>
              <a:t>Neur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652320" y="1523880"/>
            <a:ext cx="2436480" cy="1687320"/>
            <a:chOff x="652320" y="1523880"/>
            <a:chExt cx="2436480" cy="1687320"/>
          </a:xfrm>
        </p:grpSpPr>
        <p:pic>
          <p:nvPicPr>
            <p:cNvPr id="194" name="Picture 9" descr=""/>
            <p:cNvPicPr/>
            <p:nvPr/>
          </p:nvPicPr>
          <p:blipFill>
            <a:blip r:embed="rId1"/>
            <a:stretch/>
          </p:blipFill>
          <p:spPr>
            <a:xfrm>
              <a:off x="652320" y="1523880"/>
              <a:ext cx="204192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0" descr=""/>
            <p:cNvPicPr/>
            <p:nvPr/>
          </p:nvPicPr>
          <p:blipFill>
            <a:blip r:embed="rId2"/>
            <a:stretch/>
          </p:blipFill>
          <p:spPr>
            <a:xfrm>
              <a:off x="838080" y="1716480"/>
              <a:ext cx="2135520" cy="12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1" descr=""/>
            <p:cNvPicPr/>
            <p:nvPr/>
          </p:nvPicPr>
          <p:blipFill>
            <a:blip r:embed="rId3"/>
            <a:stretch/>
          </p:blipFill>
          <p:spPr>
            <a:xfrm>
              <a:off x="1209240" y="1973160"/>
              <a:ext cx="1879560" cy="1238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6673680" y="1922400"/>
            <a:ext cx="2286000" cy="134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"/>
          <p:cNvPicPr/>
          <p:nvPr/>
        </p:nvPicPr>
        <p:blipFill>
          <a:blip r:embed="rId5"/>
          <a:stretch/>
        </p:blipFill>
        <p:spPr>
          <a:xfrm>
            <a:off x="968400" y="4778280"/>
            <a:ext cx="1924200" cy="154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"/>
          <p:cNvPicPr/>
          <p:nvPr/>
        </p:nvPicPr>
        <p:blipFill>
          <a:blip r:embed="rId6"/>
          <a:stretch/>
        </p:blipFill>
        <p:spPr>
          <a:xfrm>
            <a:off x="6254640" y="5038560"/>
            <a:ext cx="2590920" cy="1054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"/>
          <p:cNvPicPr/>
          <p:nvPr/>
        </p:nvPicPr>
        <p:blipFill>
          <a:blip r:embed="rId7"/>
          <a:stretch/>
        </p:blipFill>
        <p:spPr>
          <a:xfrm>
            <a:off x="3728880" y="4524480"/>
            <a:ext cx="2343240" cy="16905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6"/>
          <p:cNvSpPr/>
          <p:nvPr/>
        </p:nvSpPr>
        <p:spPr>
          <a:xfrm>
            <a:off x="3755880" y="6178680"/>
            <a:ext cx="2041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Humnst777 BT"/>
                <a:ea typeface="Arial"/>
              </a:rPr>
              <a:t>Multivariate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6435720" y="6356520"/>
            <a:ext cx="203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Humnst777 BT"/>
                <a:ea typeface="Arial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AutoShape 24"/>
          <p:cNvCxnSpPr/>
          <p:nvPr/>
        </p:nvCxnSpPr>
        <p:spPr>
          <a:xfrm flipV="1">
            <a:off x="2747520" y="2590560"/>
            <a:ext cx="9169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4" name="AutoShape 26"/>
          <p:cNvCxnSpPr>
            <a:endCxn id="197" idx="1"/>
          </p:cNvCxnSpPr>
          <p:nvPr/>
        </p:nvCxnSpPr>
        <p:spPr>
          <a:xfrm>
            <a:off x="6025680" y="2590560"/>
            <a:ext cx="648360" cy="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5" name="AutoShape 30"/>
          <p:cNvCxnSpPr/>
          <p:nvPr/>
        </p:nvCxnSpPr>
        <p:spPr>
          <a:xfrm>
            <a:off x="4892760" y="3047760"/>
            <a:ext cx="8640" cy="1477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6" name="AutoShape 31"/>
          <p:cNvCxnSpPr/>
          <p:nvPr/>
        </p:nvCxnSpPr>
        <p:spPr>
          <a:xfrm flipH="1" rot="16200000">
            <a:off x="5226120" y="2562120"/>
            <a:ext cx="1991520" cy="2657880"/>
          </a:xfrm>
          <a:prstGeom prst="bentConnector3">
            <a:avLst>
              <a:gd name="adj1" fmla="val 4999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7" name="AutoShape 32"/>
          <p:cNvCxnSpPr/>
          <p:nvPr/>
        </p:nvCxnSpPr>
        <p:spPr>
          <a:xfrm rot="5400000">
            <a:off x="2609280" y="2406240"/>
            <a:ext cx="1603800" cy="29631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08" name="Rectangle 2"/>
          <p:cNvSpPr/>
          <p:nvPr/>
        </p:nvSpPr>
        <p:spPr>
          <a:xfrm>
            <a:off x="684360" y="4046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676680" y="2146320"/>
            <a:ext cx="2362320" cy="86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Transition poten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sub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60480" y="76320"/>
            <a:ext cx="90835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196760" y="2849400"/>
            <a:ext cx="142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Humnst777 BT"/>
                <a:ea typeface="Arial"/>
              </a:rPr>
              <a:t>Potential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2" descr=""/>
          <p:cNvPicPr/>
          <p:nvPr/>
        </p:nvPicPr>
        <p:blipFill>
          <a:blip r:embed="rId1"/>
          <a:stretch/>
        </p:blipFill>
        <p:spPr>
          <a:xfrm>
            <a:off x="6778800" y="3306600"/>
            <a:ext cx="2286000" cy="13496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684360" y="4046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otential – CLUE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564000" y="3530520"/>
            <a:ext cx="2361960" cy="86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Transition poten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sub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m 5" descr="AREA_INDIGENA.png"/>
          <p:cNvPicPr/>
          <p:nvPr/>
        </p:nvPicPr>
        <p:blipFill>
          <a:blip r:embed="rId2"/>
          <a:srcRect l="0" t="0" r="0" b="10067"/>
          <a:stretch/>
        </p:blipFill>
        <p:spPr>
          <a:xfrm>
            <a:off x="468360" y="1330200"/>
            <a:ext cx="2766960" cy="1451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C:\Users\User\Desktop\FIGURAS\DIST_RODOVIAS.png"/>
          <p:cNvPicPr/>
          <p:nvPr/>
        </p:nvPicPr>
        <p:blipFill>
          <a:blip r:embed="rId3"/>
          <a:srcRect l="0" t="0" r="15384" b="8420"/>
          <a:stretch/>
        </p:blipFill>
        <p:spPr>
          <a:xfrm>
            <a:off x="611280" y="2739960"/>
            <a:ext cx="2160360" cy="1362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C:\Users\User\Desktop\FIGURAS\DIST_PORTOS.png"/>
          <p:cNvPicPr/>
          <p:nvPr/>
        </p:nvPicPr>
        <p:blipFill>
          <a:blip r:embed="rId4"/>
          <a:srcRect l="0" t="0" r="0" b="11203"/>
          <a:stretch/>
        </p:blipFill>
        <p:spPr>
          <a:xfrm>
            <a:off x="581040" y="4146480"/>
            <a:ext cx="2046240" cy="12794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"/>
          <p:cNvSpPr/>
          <p:nvPr/>
        </p:nvSpPr>
        <p:spPr>
          <a:xfrm>
            <a:off x="468360" y="104148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umnst777 BT"/>
              </a:rPr>
              <a:t>Protected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468360" y="2573280"/>
            <a:ext cx="115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umnst777 BT"/>
              </a:rPr>
              <a:t>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395280" y="3848040"/>
            <a:ext cx="961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umnst777 BT"/>
              </a:rPr>
              <a:t>R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Imagem 7" descr="DEFOR_10.png"/>
          <p:cNvPicPr/>
          <p:nvPr/>
        </p:nvPicPr>
        <p:blipFill>
          <a:blip r:embed="rId5"/>
          <a:srcRect l="0" t="0" r="0" b="8270"/>
          <a:stretch/>
        </p:blipFill>
        <p:spPr>
          <a:xfrm>
            <a:off x="4672080" y="623880"/>
            <a:ext cx="3365280" cy="18003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"/>
          <p:cNvSpPr/>
          <p:nvPr/>
        </p:nvSpPr>
        <p:spPr>
          <a:xfrm>
            <a:off x="6832440" y="695160"/>
            <a:ext cx="1916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Defore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AutoShape 26"/>
          <p:cNvCxnSpPr/>
          <p:nvPr/>
        </p:nvCxnSpPr>
        <p:spPr>
          <a:xfrm flipV="1">
            <a:off x="4599000" y="2063160"/>
            <a:ext cx="792720" cy="144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24" name="Rectangle 1"/>
          <p:cNvSpPr/>
          <p:nvPr/>
        </p:nvSpPr>
        <p:spPr>
          <a:xfrm>
            <a:off x="4095720" y="2403360"/>
            <a:ext cx="165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Sub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26"/>
          <p:cNvCxnSpPr/>
          <p:nvPr/>
        </p:nvCxnSpPr>
        <p:spPr>
          <a:xfrm>
            <a:off x="7120080" y="2063520"/>
            <a:ext cx="576360" cy="864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pic>
        <p:nvPicPr>
          <p:cNvPr id="226" name="Imagem 7" descr="DEFOR_10.png"/>
          <p:cNvPicPr/>
          <p:nvPr/>
        </p:nvPicPr>
        <p:blipFill>
          <a:blip r:embed="rId6"/>
          <a:srcRect l="0" t="0" r="0" b="8270"/>
          <a:stretch/>
        </p:blipFill>
        <p:spPr>
          <a:xfrm>
            <a:off x="611280" y="5554800"/>
            <a:ext cx="2376360" cy="12697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"/>
          <p:cNvSpPr/>
          <p:nvPr/>
        </p:nvSpPr>
        <p:spPr>
          <a:xfrm>
            <a:off x="395280" y="527688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umnst777 BT"/>
              </a:rPr>
              <a:t>Defor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ight Brace 1"/>
          <p:cNvSpPr/>
          <p:nvPr/>
        </p:nvSpPr>
        <p:spPr>
          <a:xfrm>
            <a:off x="2700360" y="1268280"/>
            <a:ext cx="647640" cy="5400720"/>
          </a:xfrm>
          <a:custGeom>
            <a:avLst/>
            <a:gdLst>
              <a:gd name="textAreaLeft" fmla="*/ 0 w 647640"/>
              <a:gd name="textAreaRight" fmla="*/ 234000 w 647640"/>
              <a:gd name="textAreaTop" fmla="*/ 129960 h 5400720"/>
              <a:gd name="textAreaBottom" fmla="*/ 5270760 h 54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1"/>
                  <a:pt x="10800" y="1662"/>
                </a:cubicBezTo>
                <a:lnTo>
                  <a:pt x="10800" y="9138"/>
                </a:lnTo>
                <a:cubicBezTo>
                  <a:pt x="10800" y="9969"/>
                  <a:pt x="16200" y="10800"/>
                  <a:pt x="21600" y="10800"/>
                </a:cubicBezTo>
                <a:cubicBezTo>
                  <a:pt x="16200" y="10800"/>
                  <a:pt x="10800" y="11631"/>
                  <a:pt x="10800" y="12462"/>
                </a:cubicBezTo>
                <a:lnTo>
                  <a:pt x="10800" y="19938"/>
                </a:lnTo>
                <a:cubicBezTo>
                  <a:pt x="10800" y="2076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027" descr="demanda_alocacao"/>
          <p:cNvPicPr/>
          <p:nvPr/>
        </p:nvPicPr>
        <p:blipFill>
          <a:blip r:embed="rId1"/>
          <a:stretch/>
        </p:blipFill>
        <p:spPr>
          <a:xfrm>
            <a:off x="826920" y="3573360"/>
            <a:ext cx="6551640" cy="30736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tatistics: Humans as cloud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8229600" cy="144000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5e"/>
                </a:solidFill>
                <a:latin typeface="Calibri"/>
              </a:rPr>
              <a:t>Establishes statistical relationship with variables that are related to the phenomena under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5e"/>
                </a:solidFill>
                <a:latin typeface="Calibri"/>
              </a:rPr>
              <a:t>Basic hypothesis: stationary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4">
            <a:hlinkClick r:id="rId2" action="ppaction://hlinksldjump"/>
          </p:cNvPr>
          <p:cNvSpPr/>
          <p:nvPr/>
        </p:nvSpPr>
        <p:spPr>
          <a:xfrm>
            <a:off x="2238120" y="1341360"/>
            <a:ext cx="38977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=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+ ... +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41"/>
          <p:cNvSpPr/>
          <p:nvPr/>
        </p:nvSpPr>
        <p:spPr>
          <a:xfrm>
            <a:off x="4673160" y="6550200"/>
            <a:ext cx="4466520" cy="3070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Fonte: Verburg et al,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Calibri"/>
              </a:rPr>
              <a:t>Env. Man., Vol. 30, No. 3, pp. 391–4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4548240" y="3846600"/>
          <a:ext cx="4525920" cy="2868480"/>
        </p:xfrm>
        <a:graphic>
          <a:graphicData uri="http://schemas.openxmlformats.org/drawingml/2006/table">
            <a:tbl>
              <a:tblPr/>
              <a:tblGrid>
                <a:gridCol w="2263680"/>
                <a:gridCol w="1349280"/>
                <a:gridCol w="912960"/>
              </a:tblGrid>
              <a:tr h="30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umnst777 BT"/>
                        </a:rPr>
                        <a:t>R-squa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umnst777 BT"/>
                        </a:rPr>
                        <a:t>0.5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Be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p-lev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FERTIL_ALT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639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DIST_MIN_MAD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28873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PREC_INV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689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TI_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1600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ASSENT_06_NUNF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607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DIST_MIN_POR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6042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FERTIL_MUITOBAIX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037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DIST_MIN_ROD_PAV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10307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UC_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09954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498920" y="560520"/>
          <a:ext cx="4527720" cy="2868480"/>
        </p:xfrm>
        <a:graphic>
          <a:graphicData uri="http://schemas.openxmlformats.org/drawingml/2006/table">
            <a:tbl>
              <a:tblPr/>
              <a:tblGrid>
                <a:gridCol w="2263680"/>
                <a:gridCol w="1351080"/>
                <a:gridCol w="912960"/>
              </a:tblGrid>
              <a:tr h="30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umnst777 BT"/>
                        </a:rPr>
                        <a:t>R-squa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umnst777 BT"/>
                        </a:rPr>
                        <a:t>0.45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Be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p-lev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FERTIL_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2513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DIST_MIN_MAD_96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2239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DIST_MIN_ROD_PAV_96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1830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DIST_MIN_POR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8161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A_UC_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15599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POP_RUR_1996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365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A_ASSENT_96_NUNF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3460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PREC_INV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2386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A_NU_AGR_MEDIUM_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1221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</a:tbl>
          </a:graphicData>
        </a:graphic>
      </p:graphicFrame>
      <p:pic>
        <p:nvPicPr>
          <p:cNvPr id="236" name="Imagem 2" descr="acum_0208_25.tiff"/>
          <p:cNvPicPr/>
          <p:nvPr/>
        </p:nvPicPr>
        <p:blipFill>
          <a:blip r:embed="rId1"/>
          <a:srcRect l="0" t="4001" r="51930" b="5097"/>
          <a:stretch/>
        </p:blipFill>
        <p:spPr>
          <a:xfrm>
            <a:off x="-4680" y="325440"/>
            <a:ext cx="4394160" cy="6462720"/>
          </a:xfrm>
          <a:prstGeom prst="rect">
            <a:avLst/>
          </a:prstGeom>
          <a:ln w="0">
            <a:noFill/>
          </a:ln>
        </p:spPr>
      </p:pic>
      <p:sp>
        <p:nvSpPr>
          <p:cNvPr id="237" name="Retângulo 4"/>
          <p:cNvSpPr/>
          <p:nvPr/>
        </p:nvSpPr>
        <p:spPr>
          <a:xfrm>
            <a:off x="166680" y="398520"/>
            <a:ext cx="4222800" cy="63453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aixaDeTexto 5"/>
          <p:cNvSpPr/>
          <p:nvPr/>
        </p:nvSpPr>
        <p:spPr>
          <a:xfrm>
            <a:off x="55440" y="3429000"/>
            <a:ext cx="1376640" cy="368280"/>
          </a:xfrm>
          <a:prstGeom prst="rect">
            <a:avLst/>
          </a:prstGeom>
          <a:solidFill>
            <a:srgbClr val="f2f2f2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Humnst777 BT"/>
              </a:rPr>
              <a:t>1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aixaDeTexto 12"/>
          <p:cNvSpPr/>
          <p:nvPr/>
        </p:nvSpPr>
        <p:spPr>
          <a:xfrm>
            <a:off x="4000680" y="3465360"/>
            <a:ext cx="803160" cy="337320"/>
          </a:xfrm>
          <a:prstGeom prst="rect">
            <a:avLst/>
          </a:prstGeom>
          <a:solidFill>
            <a:srgbClr val="f2f2f2"/>
          </a:solidFill>
          <a:ln w="284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Humnst777 BT"/>
              </a:rPr>
              <a:t>25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400" y="69840"/>
            <a:ext cx="5416560" cy="825480"/>
          </a:xfrm>
          <a:prstGeom prst="rect">
            <a:avLst/>
          </a:prstGeom>
          <a:solidFill>
            <a:srgbClr val="f2f2f2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Humnst777 BT"/>
              </a:rPr>
              <a:t>Amazônia x Variables of 1996/200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aixaDeTexto 8"/>
          <p:cNvSpPr/>
          <p:nvPr/>
        </p:nvSpPr>
        <p:spPr>
          <a:xfrm>
            <a:off x="7283520" y="95400"/>
            <a:ext cx="1752480" cy="398880"/>
          </a:xfrm>
          <a:prstGeom prst="rect">
            <a:avLst/>
          </a:prstGeom>
          <a:solidFill>
            <a:srgbClr val="f2f2f2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Humnst777 BT"/>
                <a:ea typeface="Geneva"/>
              </a:rPr>
              <a:t>26 Variá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480" y="76320"/>
            <a:ext cx="90835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1" descr=""/>
          <p:cNvPicPr/>
          <p:nvPr/>
        </p:nvPicPr>
        <p:blipFill>
          <a:blip r:embed="rId1"/>
          <a:stretch/>
        </p:blipFill>
        <p:spPr>
          <a:xfrm>
            <a:off x="7000920" y="3754440"/>
            <a:ext cx="1941480" cy="1190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"/>
          <p:cNvPicPr/>
          <p:nvPr/>
        </p:nvPicPr>
        <p:blipFill>
          <a:blip r:embed="rId2"/>
          <a:stretch/>
        </p:blipFill>
        <p:spPr>
          <a:xfrm>
            <a:off x="546120" y="4906800"/>
            <a:ext cx="2293920" cy="13543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3"/>
          <p:cNvSpPr/>
          <p:nvPr/>
        </p:nvSpPr>
        <p:spPr>
          <a:xfrm>
            <a:off x="573120" y="6288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Potential map at </a:t>
            </a:r>
            <a:r>
              <a:rPr b="0" i="1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4"/>
          <p:cNvGrpSpPr/>
          <p:nvPr/>
        </p:nvGrpSpPr>
        <p:grpSpPr>
          <a:xfrm>
            <a:off x="519120" y="2700360"/>
            <a:ext cx="2910960" cy="1779840"/>
            <a:chOff x="519120" y="2700360"/>
            <a:chExt cx="2910960" cy="1779840"/>
          </a:xfrm>
        </p:grpSpPr>
        <p:pic>
          <p:nvPicPr>
            <p:cNvPr id="247" name="Picture 15" descr=""/>
            <p:cNvPicPr/>
            <p:nvPr/>
          </p:nvPicPr>
          <p:blipFill>
            <a:blip r:embed="rId3"/>
            <a:stretch/>
          </p:blipFill>
          <p:spPr>
            <a:xfrm>
              <a:off x="607320" y="2700360"/>
              <a:ext cx="2205000" cy="135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16"/>
            <p:cNvSpPr/>
            <p:nvPr/>
          </p:nvSpPr>
          <p:spPr>
            <a:xfrm>
              <a:off x="519120" y="4081320"/>
              <a:ext cx="291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Landscape map a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17"/>
          <p:cNvSpPr/>
          <p:nvPr/>
        </p:nvSpPr>
        <p:spPr>
          <a:xfrm>
            <a:off x="6502320" y="5049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Landscape map at </a:t>
            </a:r>
            <a:r>
              <a:rPr b="0" i="1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19"/>
          <p:cNvGrpSpPr/>
          <p:nvPr/>
        </p:nvGrpSpPr>
        <p:grpSpPr>
          <a:xfrm>
            <a:off x="2581200" y="1531800"/>
            <a:ext cx="4767120" cy="985680"/>
            <a:chOff x="2581200" y="1531800"/>
            <a:chExt cx="4767120" cy="985680"/>
          </a:xfrm>
        </p:grpSpPr>
        <p:pic>
          <p:nvPicPr>
            <p:cNvPr id="251" name="Picture 20" descr=""/>
            <p:cNvPicPr/>
            <p:nvPr/>
          </p:nvPicPr>
          <p:blipFill>
            <a:blip r:embed="rId4"/>
            <a:stretch/>
          </p:blipFill>
          <p:spPr>
            <a:xfrm>
              <a:off x="2581200" y="1987920"/>
              <a:ext cx="4767120" cy="52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21"/>
            <p:cNvSpPr/>
            <p:nvPr/>
          </p:nvSpPr>
          <p:spPr>
            <a:xfrm>
              <a:off x="4138920" y="1531800"/>
              <a:ext cx="259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Dem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2"/>
            <p:cNvSpPr/>
            <p:nvPr/>
          </p:nvSpPr>
          <p:spPr>
            <a:xfrm>
              <a:off x="2586600" y="2246760"/>
              <a:ext cx="563040" cy="264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4" name="AutoShape 23"/>
          <p:cNvCxnSpPr/>
          <p:nvPr/>
        </p:nvCxnSpPr>
        <p:spPr>
          <a:xfrm flipV="1">
            <a:off x="6226200" y="4349520"/>
            <a:ext cx="7754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55" name="AutoShape 24"/>
          <p:cNvCxnSpPr/>
          <p:nvPr/>
        </p:nvCxnSpPr>
        <p:spPr>
          <a:xfrm>
            <a:off x="2813040" y="3376440"/>
            <a:ext cx="1023120" cy="975600"/>
          </a:xfrm>
          <a:prstGeom prst="bentConnector3">
            <a:avLst>
              <a:gd name="adj1" fmla="val 49982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56" name="AutoShape 25"/>
          <p:cNvCxnSpPr/>
          <p:nvPr/>
        </p:nvCxnSpPr>
        <p:spPr>
          <a:xfrm flipV="1">
            <a:off x="2839680" y="4350960"/>
            <a:ext cx="996120" cy="1234080"/>
          </a:xfrm>
          <a:prstGeom prst="bentConnector3">
            <a:avLst>
              <a:gd name="adj1" fmla="val 48626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57" name="Text Box 26"/>
          <p:cNvSpPr/>
          <p:nvPr/>
        </p:nvSpPr>
        <p:spPr>
          <a:xfrm>
            <a:off x="4054320" y="4834080"/>
            <a:ext cx="19051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nk-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och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te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AutoShape 27"/>
          <p:cNvCxnSpPr/>
          <p:nvPr/>
        </p:nvCxnSpPr>
        <p:spPr>
          <a:xfrm>
            <a:off x="4965840" y="2517480"/>
            <a:ext cx="3600" cy="1415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59" name="AutoShape 28"/>
          <p:cNvCxnSpPr/>
          <p:nvPr/>
        </p:nvCxnSpPr>
        <p:spPr>
          <a:xfrm flipV="1" rot="16200000">
            <a:off x="4251600" y="33480"/>
            <a:ext cx="1054800" cy="6387480"/>
          </a:xfrm>
          <a:prstGeom prst="bentConnector3">
            <a:avLst>
              <a:gd name="adj1" fmla="val 22284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60" name="Rectangle 5"/>
          <p:cNvSpPr/>
          <p:nvPr/>
        </p:nvSpPr>
        <p:spPr>
          <a:xfrm>
            <a:off x="3846600" y="3933720"/>
            <a:ext cx="2361960" cy="86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sub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684360" y="4046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755640" y="476280"/>
            <a:ext cx="8137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deforestation.l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609480" y="1413000"/>
            <a:ext cx="828360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Three strategies for computing potent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rhood: Based on the average deforestation of the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Regression: Based on distance to roads, ports, and protected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ixed: Based on these four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xed yearly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72920" y="460080"/>
            <a:ext cx="81644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Models need to be Calibrated and “Validated” 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265" name="Group 31"/>
          <p:cNvGrpSpPr/>
          <p:nvPr/>
        </p:nvGrpSpPr>
        <p:grpSpPr>
          <a:xfrm>
            <a:off x="380880" y="1523880"/>
            <a:ext cx="8458200" cy="5365800"/>
            <a:chOff x="380880" y="1523880"/>
            <a:chExt cx="8458200" cy="5365800"/>
          </a:xfrm>
        </p:grpSpPr>
        <p:sp>
          <p:nvSpPr>
            <p:cNvPr id="266" name="Rectangle 2"/>
            <p:cNvSpPr/>
            <p:nvPr/>
          </p:nvSpPr>
          <p:spPr>
            <a:xfrm>
              <a:off x="1676160" y="2590560"/>
              <a:ext cx="592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Picture 3" descr=""/>
            <p:cNvPicPr/>
            <p:nvPr/>
          </p:nvPicPr>
          <p:blipFill>
            <a:blip r:embed="rId1"/>
            <a:stretch/>
          </p:blipFill>
          <p:spPr>
            <a:xfrm>
              <a:off x="4267080" y="2895480"/>
              <a:ext cx="1828800" cy="17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" descr=""/>
            <p:cNvPicPr/>
            <p:nvPr/>
          </p:nvPicPr>
          <p:blipFill>
            <a:blip r:embed="rId2"/>
            <a:stretch/>
          </p:blipFill>
          <p:spPr>
            <a:xfrm>
              <a:off x="2285640" y="2285640"/>
              <a:ext cx="190476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5"/>
            <p:cNvSpPr/>
            <p:nvPr/>
          </p:nvSpPr>
          <p:spPr>
            <a:xfrm>
              <a:off x="456840" y="4190760"/>
              <a:ext cx="16761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37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 - 20</a:t>
              </a:r>
              <a:r>
                <a:rPr b="0" lang="en-GB" sz="3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Picture 6" descr=""/>
            <p:cNvPicPr/>
            <p:nvPr/>
          </p:nvPicPr>
          <p:blipFill>
            <a:blip r:embed="rId3"/>
            <a:stretch/>
          </p:blipFill>
          <p:spPr>
            <a:xfrm>
              <a:off x="380880" y="19810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Rectangle 7"/>
            <p:cNvSpPr/>
            <p:nvPr/>
          </p:nvSpPr>
          <p:spPr>
            <a:xfrm>
              <a:off x="2719080" y="4495680"/>
              <a:ext cx="91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 - 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8"/>
            <p:cNvSpPr/>
            <p:nvPr/>
          </p:nvSpPr>
          <p:spPr>
            <a:xfrm>
              <a:off x="4980240" y="495288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39"/>
            <p:cNvGrpSpPr/>
            <p:nvPr/>
          </p:nvGrpSpPr>
          <p:grpSpPr>
            <a:xfrm>
              <a:off x="1218960" y="5181480"/>
              <a:ext cx="3581280" cy="1343520"/>
              <a:chOff x="1218960" y="5181480"/>
              <a:chExt cx="3581280" cy="1343520"/>
            </a:xfrm>
          </p:grpSpPr>
          <p:sp>
            <p:nvSpPr>
              <p:cNvPr id="274" name="Text Box 10"/>
              <p:cNvSpPr/>
              <p:nvPr/>
            </p:nvSpPr>
            <p:spPr>
              <a:xfrm>
                <a:off x="3947760" y="613224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AutoShape 11"/>
              <p:cNvSpPr/>
              <p:nvPr/>
            </p:nvSpPr>
            <p:spPr>
              <a:xfrm>
                <a:off x="1523520" y="5181480"/>
                <a:ext cx="1143000" cy="533160"/>
              </a:xfrm>
              <a:custGeom>
                <a:avLst/>
                <a:gdLst>
                  <a:gd name="textAreaLeft" fmla="*/ 200880 w 1143000"/>
                  <a:gd name="textAreaRight" fmla="*/ 825480 w 1143000"/>
                  <a:gd name="textAreaTop" fmla="*/ 71280 h 533160"/>
                  <a:gd name="textAreaBottom" fmla="*/ 46188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600" hR="21600" stAng="10800000" swAng="-5400000"/>
                    <a:lnTo>
                      <a:pt x="11800" y="21600"/>
                    </a:lnTo>
                    <a:arcTo wR="7600" hR="21600" stAng="5400000" swAng="-1288428"/>
                    <a:lnTo>
                      <a:pt x="19665" y="14400"/>
                    </a:lnTo>
                    <a:lnTo>
                      <a:pt x="17300" y="0"/>
                    </a:lnTo>
                    <a:lnTo>
                      <a:pt x="11065" y="14400"/>
                    </a:lnTo>
                    <a:lnTo>
                      <a:pt x="13265" y="14400"/>
                    </a:lnTo>
                    <a:arcTo wR="7600" hR="21600" stAng="4111572" swAng="941842"/>
                    <a:lnTo>
                      <a:pt x="9700" y="20759"/>
                    </a:lnTo>
                    <a:arcTo wR="7600" hR="21600" stAng="5746586" swAng="5053414"/>
                    <a:close/>
                  </a:path>
                  <a:path fill="darkenLess" w="21600" h="21600">
                    <a:moveTo>
                      <a:pt x="0" y="0"/>
                    </a:moveTo>
                    <a:arcTo wR="7600" hR="21600" stAng="10800000" swAng="-5400000"/>
                    <a:lnTo>
                      <a:pt x="11800" y="21600"/>
                    </a:lnTo>
                    <a:arcTo wR="7600" hR="21600" stAng="5400000" swAng="346586"/>
                    <a:lnTo>
                      <a:pt x="9700" y="20759"/>
                    </a:lnTo>
                    <a:arcTo wR="7600" hR="21600" stAng="5746586" swAng="5053414"/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AutoShape 12"/>
              <p:cNvSpPr/>
              <p:nvPr/>
            </p:nvSpPr>
            <p:spPr>
              <a:xfrm>
                <a:off x="3504960" y="5486040"/>
                <a:ext cx="1143000" cy="533160"/>
              </a:xfrm>
              <a:custGeom>
                <a:avLst/>
                <a:gdLst>
                  <a:gd name="textAreaLeft" fmla="*/ 200880 w 1143000"/>
                  <a:gd name="textAreaRight" fmla="*/ 825480 w 1143000"/>
                  <a:gd name="textAreaTop" fmla="*/ 71280 h 533160"/>
                  <a:gd name="textAreaBottom" fmla="*/ 46188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600" hR="21600" stAng="10800000" swAng="-5400000"/>
                    <a:lnTo>
                      <a:pt x="11800" y="21600"/>
                    </a:lnTo>
                    <a:arcTo wR="7600" hR="21600" stAng="5400000" swAng="-1288428"/>
                    <a:lnTo>
                      <a:pt x="19665" y="14400"/>
                    </a:lnTo>
                    <a:lnTo>
                      <a:pt x="17300" y="0"/>
                    </a:lnTo>
                    <a:lnTo>
                      <a:pt x="11065" y="14400"/>
                    </a:lnTo>
                    <a:lnTo>
                      <a:pt x="13265" y="14400"/>
                    </a:lnTo>
                    <a:arcTo wR="7600" hR="21600" stAng="4111572" swAng="941842"/>
                    <a:lnTo>
                      <a:pt x="9700" y="20759"/>
                    </a:lnTo>
                    <a:arcTo wR="7600" hR="21600" stAng="5746586" swAng="5053414"/>
                    <a:close/>
                  </a:path>
                  <a:path fill="darkenLess" w="21600" h="21600">
                    <a:moveTo>
                      <a:pt x="0" y="0"/>
                    </a:moveTo>
                    <a:arcTo wR="7600" hR="21600" stAng="10800000" swAng="-5400000"/>
                    <a:lnTo>
                      <a:pt x="11800" y="21600"/>
                    </a:lnTo>
                    <a:arcTo wR="7600" hR="21600" stAng="5400000" swAng="346586"/>
                    <a:lnTo>
                      <a:pt x="9700" y="20759"/>
                    </a:lnTo>
                    <a:arcTo wR="7600" hR="21600" stAng="5746586" swAng="5053414"/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13"/>
              <p:cNvSpPr/>
              <p:nvPr/>
            </p:nvSpPr>
            <p:spPr>
              <a:xfrm>
                <a:off x="1218960" y="6095520"/>
                <a:ext cx="15238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i="1" lang="en-GB" sz="1700" spc="-1" strike="noStrike">
                    <a:solidFill>
                      <a:srgbClr val="000000"/>
                    </a:solidFill>
                    <a:latin typeface="Arial"/>
                  </a:rPr>
                  <a:t>Calibratio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4"/>
              <p:cNvSpPr/>
              <p:nvPr/>
            </p:nvSpPr>
            <p:spPr>
              <a:xfrm>
                <a:off x="3276360" y="6171840"/>
                <a:ext cx="15238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i="1" lang="en-GB" sz="1700" spc="-1" strike="noStrike">
                    <a:solidFill>
                      <a:srgbClr val="000000"/>
                    </a:solidFill>
                    <a:latin typeface="Arial"/>
                  </a:rPr>
                  <a:t>Validatio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AutoShape 15"/>
            <p:cNvSpPr/>
            <p:nvPr/>
          </p:nvSpPr>
          <p:spPr>
            <a:xfrm>
              <a:off x="1447560" y="1523880"/>
              <a:ext cx="1066680" cy="457200"/>
            </a:xfrm>
            <a:custGeom>
              <a:avLst/>
              <a:gdLst>
                <a:gd name="textAreaLeft" fmla="*/ 187560 w 1066680"/>
                <a:gd name="textAreaRight" fmla="*/ 770400 w 10666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00" hR="21600" stAng="10800000" swAng="5400000"/>
                  <a:lnTo>
                    <a:pt x="11800" y="0"/>
                  </a:lnTo>
                  <a:arcTo wR="7600" hR="21600" stAng="-5400000" swAng="2691708"/>
                  <a:lnTo>
                    <a:pt x="21165" y="14400"/>
                  </a:lnTo>
                  <a:lnTo>
                    <a:pt x="17300" y="21600"/>
                  </a:lnTo>
                  <a:lnTo>
                    <a:pt x="12565" y="14400"/>
                  </a:lnTo>
                  <a:lnTo>
                    <a:pt x="14765" y="14400"/>
                  </a:lnTo>
                  <a:arcTo wR="7600" hR="21600" stAng="-2708292" swAng="-2345122"/>
                  <a:lnTo>
                    <a:pt x="9700" y="841"/>
                  </a:lnTo>
                  <a:arcTo wR="7600" hR="21600" stAng="-5746586" swAng="-5053414"/>
                  <a:close/>
                </a:path>
                <a:path fill="darkenLess" w="21600" h="21600">
                  <a:moveTo>
                    <a:pt x="0" y="21600"/>
                  </a:moveTo>
                  <a:arcTo wR="7600" hR="21600" stAng="10800000" swAng="5400000"/>
                  <a:lnTo>
                    <a:pt x="7600" y="0"/>
                  </a:lnTo>
                  <a:arcTo wR="7600" hR="21600" stAng="-5400000" swAng="346586"/>
                  <a:lnTo>
                    <a:pt x="9700" y="841"/>
                  </a:lnTo>
                  <a:arcTo wR="7600" hR="21600" stAng="-5746586" swAng="-5053414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16"/>
            <p:cNvGrpSpPr/>
            <p:nvPr/>
          </p:nvGrpSpPr>
          <p:grpSpPr>
            <a:xfrm>
              <a:off x="5867280" y="1981080"/>
              <a:ext cx="2971800" cy="4548960"/>
              <a:chOff x="5867280" y="1981080"/>
              <a:chExt cx="2971800" cy="4548960"/>
            </a:xfrm>
          </p:grpSpPr>
          <p:pic>
            <p:nvPicPr>
              <p:cNvPr id="281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6553080" y="3809880"/>
                <a:ext cx="2286000" cy="203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Rectangle 18"/>
              <p:cNvSpPr/>
              <p:nvPr/>
            </p:nvSpPr>
            <p:spPr>
              <a:xfrm>
                <a:off x="7256520" y="6019920"/>
                <a:ext cx="98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+ 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19"/>
              <p:cNvSpPr/>
              <p:nvPr/>
            </p:nvSpPr>
            <p:spPr>
              <a:xfrm>
                <a:off x="6781680" y="3200400"/>
                <a:ext cx="175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cenari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AutoShape 20"/>
              <p:cNvSpPr/>
              <p:nvPr/>
            </p:nvSpPr>
            <p:spPr>
              <a:xfrm>
                <a:off x="5867280" y="1981080"/>
                <a:ext cx="1905120" cy="838440"/>
              </a:xfrm>
              <a:custGeom>
                <a:avLst/>
                <a:gdLst>
                  <a:gd name="textAreaLeft" fmla="*/ 335160 w 1905120"/>
                  <a:gd name="textAreaRight" fmla="*/ 1375920 w 1905120"/>
                  <a:gd name="textAreaTop" fmla="*/ 112320 h 838440"/>
                  <a:gd name="textAreaBottom" fmla="*/ 726120 h 83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600" hR="21600" stAng="10800000" swAng="5400000"/>
                    <a:lnTo>
                      <a:pt x="11800" y="0"/>
                    </a:lnTo>
                    <a:arcTo wR="7600" hR="21600" stAng="-5400000" swAng="2691708"/>
                    <a:lnTo>
                      <a:pt x="21165" y="14400"/>
                    </a:lnTo>
                    <a:lnTo>
                      <a:pt x="17300" y="21600"/>
                    </a:lnTo>
                    <a:lnTo>
                      <a:pt x="12565" y="14400"/>
                    </a:lnTo>
                    <a:lnTo>
                      <a:pt x="14765" y="14400"/>
                    </a:lnTo>
                    <a:arcTo wR="7600" hR="21600" stAng="-2708292" swAng="-2345122"/>
                    <a:lnTo>
                      <a:pt x="9700" y="841"/>
                    </a:lnTo>
                    <a:arcTo wR="7600" hR="21600" stAng="-5746586" swAng="-5053414"/>
                    <a:close/>
                  </a:path>
                  <a:path fill="darkenLess" w="21600" h="21600">
                    <a:moveTo>
                      <a:pt x="0" y="21600"/>
                    </a:moveTo>
                    <a:arcTo wR="7600" hR="21600" stAng="10800000" swAng="5400000"/>
                    <a:lnTo>
                      <a:pt x="7600" y="0"/>
                    </a:lnTo>
                    <a:arcTo wR="7600" hR="21600" stAng="-5400000" swAng="346586"/>
                    <a:lnTo>
                      <a:pt x="9700" y="841"/>
                    </a:lnTo>
                    <a:arcTo wR="7600" hR="21600" stAng="-5746586" swAng="-5053414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21"/>
            <p:cNvSpPr/>
            <p:nvPr/>
          </p:nvSpPr>
          <p:spPr>
            <a:xfrm>
              <a:off x="3581280" y="1676160"/>
              <a:ext cx="1295280" cy="609480"/>
            </a:xfrm>
            <a:custGeom>
              <a:avLst/>
              <a:gdLst>
                <a:gd name="textAreaLeft" fmla="*/ 227880 w 1295280"/>
                <a:gd name="textAreaRight" fmla="*/ 935640 w 1295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00" hR="21600" stAng="10800000" swAng="5400000"/>
                  <a:lnTo>
                    <a:pt x="11800" y="0"/>
                  </a:lnTo>
                  <a:arcTo wR="7600" hR="21600" stAng="-5400000" swAng="2691708"/>
                  <a:lnTo>
                    <a:pt x="21165" y="14400"/>
                  </a:lnTo>
                  <a:lnTo>
                    <a:pt x="17300" y="21600"/>
                  </a:lnTo>
                  <a:lnTo>
                    <a:pt x="12565" y="14400"/>
                  </a:lnTo>
                  <a:lnTo>
                    <a:pt x="14765" y="14400"/>
                  </a:lnTo>
                  <a:arcTo wR="7600" hR="21600" stAng="-2708292" swAng="-2345122"/>
                  <a:lnTo>
                    <a:pt x="9700" y="841"/>
                  </a:lnTo>
                  <a:arcTo wR="7600" hR="21600" stAng="-5746586" swAng="-5053414"/>
                  <a:close/>
                </a:path>
                <a:path fill="darkenLess" w="21600" h="21600">
                  <a:moveTo>
                    <a:pt x="0" y="21600"/>
                  </a:moveTo>
                  <a:arcTo wR="7600" hR="21600" stAng="10800000" swAng="5400000"/>
                  <a:lnTo>
                    <a:pt x="7600" y="0"/>
                  </a:lnTo>
                  <a:arcTo wR="7600" hR="21600" stAng="-5400000" swAng="346586"/>
                  <a:lnTo>
                    <a:pt x="9700" y="841"/>
                  </a:lnTo>
                  <a:arcTo wR="7600" hR="21600" stAng="-5746586" swAng="-5053414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22"/>
            <p:cNvSpPr/>
            <p:nvPr/>
          </p:nvSpPr>
          <p:spPr>
            <a:xfrm>
              <a:off x="1447560" y="1523880"/>
              <a:ext cx="1066680" cy="457200"/>
            </a:xfrm>
            <a:custGeom>
              <a:avLst/>
              <a:gdLst>
                <a:gd name="textAreaLeft" fmla="*/ 187560 w 1066680"/>
                <a:gd name="textAreaRight" fmla="*/ 770400 w 10666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00" hR="21600" stAng="10800000" swAng="5400000"/>
                  <a:lnTo>
                    <a:pt x="11800" y="0"/>
                  </a:lnTo>
                  <a:arcTo wR="7600" hR="21600" stAng="-5400000" swAng="2691708"/>
                  <a:lnTo>
                    <a:pt x="21165" y="14400"/>
                  </a:lnTo>
                  <a:lnTo>
                    <a:pt x="17300" y="21600"/>
                  </a:lnTo>
                  <a:lnTo>
                    <a:pt x="12565" y="14400"/>
                  </a:lnTo>
                  <a:lnTo>
                    <a:pt x="14765" y="14400"/>
                  </a:lnTo>
                  <a:arcTo wR="7600" hR="21600" stAng="-2708292" swAng="-2345122"/>
                  <a:lnTo>
                    <a:pt x="9700" y="841"/>
                  </a:lnTo>
                  <a:arcTo wR="7600" hR="21600" stAng="-5746586" swAng="-5053414"/>
                  <a:close/>
                </a:path>
                <a:path fill="darkenLess" w="21600" h="21600">
                  <a:moveTo>
                    <a:pt x="0" y="21600"/>
                  </a:moveTo>
                  <a:arcTo wR="7600" hR="21600" stAng="10800000" swAng="5400000"/>
                  <a:lnTo>
                    <a:pt x="7600" y="0"/>
                  </a:lnTo>
                  <a:arcTo wR="7600" hR="21600" stAng="-5400000" swAng="346586"/>
                  <a:lnTo>
                    <a:pt x="9700" y="841"/>
                  </a:lnTo>
                  <a:arcTo wR="7600" hR="21600" stAng="-5746586" swAng="-5053414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609480" y="652140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ZapfHumnst BT"/>
                </a:rPr>
                <a:t>Source: Cláudia Alme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0754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Goodness-of-fi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89" name="Imagem 3" descr=""/>
          <p:cNvPicPr/>
          <p:nvPr/>
        </p:nvPicPr>
        <p:blipFill>
          <a:blip r:embed="rId1"/>
          <a:stretch/>
        </p:blipFill>
        <p:spPr>
          <a:xfrm>
            <a:off x="1476360" y="988920"/>
            <a:ext cx="5904000" cy="5621400"/>
          </a:xfrm>
          <a:prstGeom prst="rect">
            <a:avLst/>
          </a:prstGeom>
          <a:ln w="0">
            <a:noFill/>
          </a:ln>
        </p:spPr>
      </p:pic>
      <p:sp>
        <p:nvSpPr>
          <p:cNvPr id="290" name="CaixaDeTexto 7"/>
          <p:cNvSpPr/>
          <p:nvPr/>
        </p:nvSpPr>
        <p:spPr>
          <a:xfrm>
            <a:off x="6659640" y="64771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ource: Costanza,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0754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Goodness-of-fit: Multileve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2" name="CaixaDeTexto 7"/>
          <p:cNvSpPr/>
          <p:nvPr/>
        </p:nvSpPr>
        <p:spPr>
          <a:xfrm>
            <a:off x="6659640" y="64771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ource: Costanza,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549360" y="1440000"/>
            <a:ext cx="84834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Modelling and Public Policy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82560" y="2949480"/>
            <a:ext cx="1555920" cy="2127240"/>
          </a:xfrm>
          <a:prstGeom prst="rect">
            <a:avLst/>
          </a:prstGeom>
          <a:solidFill>
            <a:srgbClr val="c8d8f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Ec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719280" y="3398760"/>
            <a:ext cx="1576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247920" y="3354480"/>
            <a:ext cx="1440000" cy="13129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5195880" y="3311640"/>
            <a:ext cx="1682640" cy="1385640"/>
          </a:xfrm>
          <a:prstGeom prst="diamond">
            <a:avLst/>
          </a:prstGeom>
          <a:solidFill>
            <a:srgbClr val="c8d8f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413480" y="3086280"/>
            <a:ext cx="1460520" cy="1841400"/>
          </a:xfrm>
          <a:prstGeom prst="rect">
            <a:avLst/>
          </a:prstGeom>
          <a:solidFill>
            <a:srgbClr val="c8d8f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Desi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System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3268800" y="1981080"/>
            <a:ext cx="1439640" cy="920880"/>
          </a:xfrm>
          <a:prstGeom prst="rect">
            <a:avLst/>
          </a:prstGeom>
          <a:solidFill>
            <a:srgbClr val="c8d8f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Infl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184560" y="5133960"/>
            <a:ext cx="1577880" cy="698400"/>
          </a:xfrm>
          <a:prstGeom prst="rect">
            <a:avLst/>
          </a:prstGeom>
          <a:solidFill>
            <a:srgbClr val="c8d8f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Poli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10"/>
          <p:cNvCxnSpPr>
            <a:stCxn id="114" idx="1"/>
            <a:endCxn id="109" idx="0"/>
          </p:cNvCxnSpPr>
          <p:nvPr/>
        </p:nvCxnSpPr>
        <p:spPr>
          <a:xfrm flipV="1" rot="10800000">
            <a:off x="1459800" y="2440440"/>
            <a:ext cx="1809000" cy="50868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7" name="AutoShape 11"/>
          <p:cNvCxnSpPr>
            <a:stCxn id="109" idx="3"/>
            <a:endCxn id="111" idx="1"/>
          </p:cNvCxnSpPr>
          <p:nvPr/>
        </p:nvCxnSpPr>
        <p:spPr>
          <a:xfrm flipV="1">
            <a:off x="2238480" y="4009320"/>
            <a:ext cx="1010160" cy="3960"/>
          </a:xfrm>
          <a:prstGeom prst="bentConnector3">
            <a:avLst>
              <a:gd name="adj1" fmla="val 49982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8" name="AutoShape 12"/>
          <p:cNvCxnSpPr>
            <a:stCxn id="115" idx="1"/>
            <a:endCxn id="109" idx="2"/>
          </p:cNvCxnSpPr>
          <p:nvPr/>
        </p:nvCxnSpPr>
        <p:spPr>
          <a:xfrm rot="10800000">
            <a:off x="1459800" y="5076000"/>
            <a:ext cx="1724760" cy="40716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9" name="AutoShape 13"/>
          <p:cNvCxnSpPr>
            <a:stCxn id="112" idx="2"/>
            <a:endCxn id="115" idx="3"/>
          </p:cNvCxnSpPr>
          <p:nvPr/>
        </p:nvCxnSpPr>
        <p:spPr>
          <a:xfrm rot="5400000">
            <a:off x="5006160" y="4452480"/>
            <a:ext cx="786600" cy="127548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0" name="AutoShape 14"/>
          <p:cNvCxnSpPr>
            <a:stCxn id="111" idx="3"/>
            <a:endCxn id="112" idx="1"/>
          </p:cNvCxnSpPr>
          <p:nvPr/>
        </p:nvCxnSpPr>
        <p:spPr>
          <a:xfrm flipV="1">
            <a:off x="4687560" y="4004640"/>
            <a:ext cx="508680" cy="540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1" name="AutoShape 15"/>
          <p:cNvCxnSpPr>
            <a:stCxn id="114" idx="3"/>
            <a:endCxn id="112" idx="0"/>
          </p:cNvCxnSpPr>
          <p:nvPr/>
        </p:nvCxnSpPr>
        <p:spPr>
          <a:xfrm>
            <a:off x="4708080" y="2441160"/>
            <a:ext cx="1329480" cy="87084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2" name="AutoShape 16"/>
          <p:cNvCxnSpPr>
            <a:stCxn id="113" idx="1"/>
            <a:endCxn id="112" idx="3"/>
          </p:cNvCxnSpPr>
          <p:nvPr/>
        </p:nvCxnSpPr>
        <p:spPr>
          <a:xfrm rot="10800000">
            <a:off x="6877800" y="4004640"/>
            <a:ext cx="535680" cy="2160"/>
          </a:xfrm>
          <a:prstGeom prst="bentConnector3">
            <a:avLst>
              <a:gd name="adj1" fmla="val 49966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755640" y="476280"/>
            <a:ext cx="7075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t According to Window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4772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"/>
          <p:cNvSpPr/>
          <p:nvPr/>
        </p:nvSpPr>
        <p:spPr>
          <a:xfrm>
            <a:off x="755640" y="476280"/>
            <a:ext cx="7075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Goodness-of-fit of Land Chang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Screen Shot 2013-06-25 at 20.51.10.png"/>
          <p:cNvPicPr/>
          <p:nvPr/>
        </p:nvPicPr>
        <p:blipFill>
          <a:blip r:embed="rId1"/>
          <a:srcRect l="0" t="0" r="0" b="803"/>
          <a:stretch/>
        </p:blipFill>
        <p:spPr>
          <a:xfrm>
            <a:off x="1258920" y="2201760"/>
            <a:ext cx="6626160" cy="46562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3"/>
          <p:cNvSpPr/>
          <p:nvPr/>
        </p:nvSpPr>
        <p:spPr>
          <a:xfrm>
            <a:off x="611280" y="1268280"/>
            <a:ext cx="8424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ormalize the error according to the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ompute error instead of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755640" y="476280"/>
            <a:ext cx="8137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Land Change Models x Cellular Auto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609480" y="1413000"/>
            <a:ext cx="853452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Behavior parallel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Read from the neighbors and write in the cell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an a land change model be considered a Cellular Autom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"/>
          <p:cNvGrpSpPr/>
          <p:nvPr/>
        </p:nvGrpSpPr>
        <p:grpSpPr>
          <a:xfrm>
            <a:off x="5940360" y="1413000"/>
            <a:ext cx="2592360" cy="2676240"/>
            <a:chOff x="5940360" y="1413000"/>
            <a:chExt cx="2592360" cy="2676240"/>
          </a:xfrm>
        </p:grpSpPr>
        <p:sp>
          <p:nvSpPr>
            <p:cNvPr id="302" name="Rectangle 4"/>
            <p:cNvSpPr/>
            <p:nvPr/>
          </p:nvSpPr>
          <p:spPr>
            <a:xfrm>
              <a:off x="5940360" y="141300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"/>
            <p:cNvSpPr/>
            <p:nvPr/>
          </p:nvSpPr>
          <p:spPr>
            <a:xfrm>
              <a:off x="5940360" y="185904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"/>
            <p:cNvSpPr/>
            <p:nvPr/>
          </p:nvSpPr>
          <p:spPr>
            <a:xfrm>
              <a:off x="5940360" y="23050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"/>
            <p:cNvSpPr/>
            <p:nvPr/>
          </p:nvSpPr>
          <p:spPr>
            <a:xfrm>
              <a:off x="5940360" y="2751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"/>
            <p:cNvSpPr/>
            <p:nvPr/>
          </p:nvSpPr>
          <p:spPr>
            <a:xfrm>
              <a:off x="5940360" y="3197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9"/>
            <p:cNvSpPr/>
            <p:nvPr/>
          </p:nvSpPr>
          <p:spPr>
            <a:xfrm>
              <a:off x="5940360" y="3643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0"/>
            <p:cNvSpPr/>
            <p:nvPr/>
          </p:nvSpPr>
          <p:spPr>
            <a:xfrm>
              <a:off x="6372000" y="141300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1"/>
            <p:cNvSpPr/>
            <p:nvPr/>
          </p:nvSpPr>
          <p:spPr>
            <a:xfrm>
              <a:off x="6372000" y="185904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2"/>
            <p:cNvSpPr/>
            <p:nvPr/>
          </p:nvSpPr>
          <p:spPr>
            <a:xfrm>
              <a:off x="6372000" y="23050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3"/>
            <p:cNvSpPr/>
            <p:nvPr/>
          </p:nvSpPr>
          <p:spPr>
            <a:xfrm>
              <a:off x="6372000" y="2751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4"/>
            <p:cNvSpPr/>
            <p:nvPr/>
          </p:nvSpPr>
          <p:spPr>
            <a:xfrm>
              <a:off x="6372000" y="3197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5"/>
            <p:cNvSpPr/>
            <p:nvPr/>
          </p:nvSpPr>
          <p:spPr>
            <a:xfrm>
              <a:off x="6372000" y="3643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6804000" y="141300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7"/>
            <p:cNvSpPr/>
            <p:nvPr/>
          </p:nvSpPr>
          <p:spPr>
            <a:xfrm>
              <a:off x="6804000" y="18590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8"/>
            <p:cNvSpPr/>
            <p:nvPr/>
          </p:nvSpPr>
          <p:spPr>
            <a:xfrm>
              <a:off x="6804000" y="23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9"/>
            <p:cNvSpPr/>
            <p:nvPr/>
          </p:nvSpPr>
          <p:spPr>
            <a:xfrm>
              <a:off x="6804000" y="27734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0"/>
            <p:cNvSpPr/>
            <p:nvPr/>
          </p:nvSpPr>
          <p:spPr>
            <a:xfrm>
              <a:off x="6804000" y="3197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1"/>
            <p:cNvSpPr/>
            <p:nvPr/>
          </p:nvSpPr>
          <p:spPr>
            <a:xfrm>
              <a:off x="6804000" y="3643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2"/>
            <p:cNvSpPr/>
            <p:nvPr/>
          </p:nvSpPr>
          <p:spPr>
            <a:xfrm>
              <a:off x="7237440" y="141300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3"/>
            <p:cNvSpPr/>
            <p:nvPr/>
          </p:nvSpPr>
          <p:spPr>
            <a:xfrm>
              <a:off x="7237440" y="18590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4"/>
            <p:cNvSpPr/>
            <p:nvPr/>
          </p:nvSpPr>
          <p:spPr>
            <a:xfrm>
              <a:off x="7237440" y="23050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5"/>
            <p:cNvSpPr/>
            <p:nvPr/>
          </p:nvSpPr>
          <p:spPr>
            <a:xfrm>
              <a:off x="7237440" y="2766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6"/>
            <p:cNvSpPr/>
            <p:nvPr/>
          </p:nvSpPr>
          <p:spPr>
            <a:xfrm>
              <a:off x="7237440" y="3197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7"/>
            <p:cNvSpPr/>
            <p:nvPr/>
          </p:nvSpPr>
          <p:spPr>
            <a:xfrm>
              <a:off x="7237440" y="3643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8"/>
            <p:cNvSpPr/>
            <p:nvPr/>
          </p:nvSpPr>
          <p:spPr>
            <a:xfrm>
              <a:off x="7669080" y="141300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9"/>
            <p:cNvSpPr/>
            <p:nvPr/>
          </p:nvSpPr>
          <p:spPr>
            <a:xfrm>
              <a:off x="7669080" y="18590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0"/>
            <p:cNvSpPr/>
            <p:nvPr/>
          </p:nvSpPr>
          <p:spPr>
            <a:xfrm>
              <a:off x="7669080" y="23050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31"/>
            <p:cNvSpPr/>
            <p:nvPr/>
          </p:nvSpPr>
          <p:spPr>
            <a:xfrm>
              <a:off x="7669080" y="2751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2"/>
            <p:cNvSpPr/>
            <p:nvPr/>
          </p:nvSpPr>
          <p:spPr>
            <a:xfrm>
              <a:off x="7669080" y="3197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33"/>
            <p:cNvSpPr/>
            <p:nvPr/>
          </p:nvSpPr>
          <p:spPr>
            <a:xfrm>
              <a:off x="7669080" y="3643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4"/>
            <p:cNvSpPr/>
            <p:nvPr/>
          </p:nvSpPr>
          <p:spPr>
            <a:xfrm>
              <a:off x="8101080" y="141300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35"/>
            <p:cNvSpPr/>
            <p:nvPr/>
          </p:nvSpPr>
          <p:spPr>
            <a:xfrm>
              <a:off x="8101080" y="18590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36"/>
            <p:cNvSpPr/>
            <p:nvPr/>
          </p:nvSpPr>
          <p:spPr>
            <a:xfrm>
              <a:off x="8101080" y="23050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7"/>
            <p:cNvSpPr/>
            <p:nvPr/>
          </p:nvSpPr>
          <p:spPr>
            <a:xfrm>
              <a:off x="8101080" y="2751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38"/>
            <p:cNvSpPr/>
            <p:nvPr/>
          </p:nvSpPr>
          <p:spPr>
            <a:xfrm>
              <a:off x="8101080" y="3197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39"/>
            <p:cNvSpPr/>
            <p:nvPr/>
          </p:nvSpPr>
          <p:spPr>
            <a:xfrm>
              <a:off x="8101080" y="3643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40"/>
            <p:cNvSpPr/>
            <p:nvPr/>
          </p:nvSpPr>
          <p:spPr>
            <a:xfrm>
              <a:off x="6372000" y="185904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1"/>
            <p:cNvSpPr/>
            <p:nvPr/>
          </p:nvSpPr>
          <p:spPr>
            <a:xfrm>
              <a:off x="5940360" y="185904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2"/>
            <p:cNvSpPr/>
            <p:nvPr/>
          </p:nvSpPr>
          <p:spPr>
            <a:xfrm>
              <a:off x="5940360" y="230508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3"/>
            <p:cNvSpPr/>
            <p:nvPr/>
          </p:nvSpPr>
          <p:spPr>
            <a:xfrm>
              <a:off x="5940360" y="2751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44"/>
            <p:cNvSpPr/>
            <p:nvPr/>
          </p:nvSpPr>
          <p:spPr>
            <a:xfrm>
              <a:off x="5940360" y="3197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45"/>
            <p:cNvSpPr/>
            <p:nvPr/>
          </p:nvSpPr>
          <p:spPr>
            <a:xfrm>
              <a:off x="5940360" y="3643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46"/>
            <p:cNvSpPr/>
            <p:nvPr/>
          </p:nvSpPr>
          <p:spPr>
            <a:xfrm>
              <a:off x="6372000" y="230508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47"/>
            <p:cNvSpPr/>
            <p:nvPr/>
          </p:nvSpPr>
          <p:spPr>
            <a:xfrm>
              <a:off x="6372000" y="2751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48"/>
            <p:cNvSpPr/>
            <p:nvPr/>
          </p:nvSpPr>
          <p:spPr>
            <a:xfrm>
              <a:off x="6372000" y="3197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49"/>
            <p:cNvSpPr/>
            <p:nvPr/>
          </p:nvSpPr>
          <p:spPr>
            <a:xfrm>
              <a:off x="6804000" y="3197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50"/>
            <p:cNvSpPr/>
            <p:nvPr/>
          </p:nvSpPr>
          <p:spPr>
            <a:xfrm>
              <a:off x="6804000" y="3643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51"/>
            <p:cNvSpPr/>
            <p:nvPr/>
          </p:nvSpPr>
          <p:spPr>
            <a:xfrm>
              <a:off x="7237440" y="3643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52"/>
            <p:cNvSpPr/>
            <p:nvPr/>
          </p:nvSpPr>
          <p:spPr>
            <a:xfrm>
              <a:off x="7669080" y="3643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53"/>
            <p:cNvSpPr/>
            <p:nvPr/>
          </p:nvSpPr>
          <p:spPr>
            <a:xfrm>
              <a:off x="8101080" y="3643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54"/>
            <p:cNvSpPr/>
            <p:nvPr/>
          </p:nvSpPr>
          <p:spPr>
            <a:xfrm>
              <a:off x="6372000" y="3643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Brazilian Amazoni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4" name="Picture 3" descr="Captura de Tela 2013-03-20 às 09.02.52.png"/>
          <p:cNvPicPr/>
          <p:nvPr/>
        </p:nvPicPr>
        <p:blipFill>
          <a:blip r:embed="rId1"/>
          <a:stretch/>
        </p:blipFill>
        <p:spPr>
          <a:xfrm>
            <a:off x="762120" y="981000"/>
            <a:ext cx="6546600" cy="59086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292080" y="648828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ZapfHumnst BT"/>
              </a:rPr>
              <a:t>Source:  PRODES (IN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-4680" y="3240"/>
            <a:ext cx="1008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terraAmazon2"/>
          <p:cNvPicPr/>
          <p:nvPr/>
        </p:nvPicPr>
        <p:blipFill>
          <a:blip r:embed="rId1"/>
          <a:stretch/>
        </p:blipFill>
        <p:spPr>
          <a:xfrm>
            <a:off x="0" y="3657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prodes_acum_97b"/>
          <p:cNvPicPr/>
          <p:nvPr/>
        </p:nvPicPr>
        <p:blipFill>
          <a:blip r:embed="rId2"/>
          <a:srcRect l="631" t="0" r="-409" b="0"/>
          <a:stretch/>
        </p:blipFill>
        <p:spPr>
          <a:xfrm>
            <a:off x="4713120" y="3627360"/>
            <a:ext cx="422928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1084320" y="6281640"/>
            <a:ext cx="714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060"/>
                </a:solidFill>
                <a:latin typeface="Calibri"/>
              </a:rPr>
              <a:t>PRODES - Deforestation in Amaz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206280" y="0"/>
            <a:ext cx="8715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hat drives deforestation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2" name="Picture 60" descr="prodes2003_04"/>
          <p:cNvPicPr/>
          <p:nvPr/>
        </p:nvPicPr>
        <p:blipFill>
          <a:blip r:embed="rId1"/>
          <a:stretch/>
        </p:blipFill>
        <p:spPr>
          <a:xfrm>
            <a:off x="468360" y="1052640"/>
            <a:ext cx="864216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magem 5" descr="amazonia.png"/>
          <p:cNvPicPr/>
          <p:nvPr/>
        </p:nvPicPr>
        <p:blipFill>
          <a:blip r:embed="rId1"/>
          <a:stretch/>
        </p:blipFill>
        <p:spPr>
          <a:xfrm>
            <a:off x="611280" y="1017720"/>
            <a:ext cx="8424720" cy="5940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What drives deforestation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agem 5" descr="AREA_INDIGENA.png"/>
          <p:cNvPicPr/>
          <p:nvPr/>
        </p:nvPicPr>
        <p:blipFill>
          <a:blip r:embed="rId1"/>
          <a:stretch/>
        </p:blipFill>
        <p:spPr>
          <a:xfrm>
            <a:off x="539640" y="1125360"/>
            <a:ext cx="4978440" cy="2901960"/>
          </a:xfrm>
          <a:prstGeom prst="rect">
            <a:avLst/>
          </a:prstGeom>
          <a:ln w="0">
            <a:noFill/>
          </a:ln>
        </p:spPr>
      </p:pic>
      <p:pic>
        <p:nvPicPr>
          <p:cNvPr id="136" name="Imagem 7" descr="DEFOR_10.png"/>
          <p:cNvPicPr/>
          <p:nvPr/>
        </p:nvPicPr>
        <p:blipFill>
          <a:blip r:embed="rId2"/>
          <a:stretch/>
        </p:blipFill>
        <p:spPr>
          <a:xfrm>
            <a:off x="560520" y="4149720"/>
            <a:ext cx="4690800" cy="2735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3421080" y="11970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rotect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C:\Users\User\Desktop\FIGURAS\DIST_PORTOS.png"/>
          <p:cNvPicPr/>
          <p:nvPr/>
        </p:nvPicPr>
        <p:blipFill>
          <a:blip r:embed="rId3"/>
          <a:stretch/>
        </p:blipFill>
        <p:spPr>
          <a:xfrm>
            <a:off x="5016600" y="1052640"/>
            <a:ext cx="4127400" cy="2903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Users\User\Desktop\FIGURAS\DIST_RODOVIAS.png"/>
          <p:cNvPicPr/>
          <p:nvPr/>
        </p:nvPicPr>
        <p:blipFill>
          <a:blip r:embed="rId4"/>
          <a:srcRect l="0" t="0" r="15384" b="0"/>
          <a:stretch/>
        </p:blipFill>
        <p:spPr>
          <a:xfrm>
            <a:off x="4932360" y="3983040"/>
            <a:ext cx="4211640" cy="2901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8029440" y="1125360"/>
            <a:ext cx="115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7931160" y="420048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R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3494160" y="4272120"/>
            <a:ext cx="2590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Defore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Cellular Spac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Top-down Land Change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865680" y="2498760"/>
            <a:ext cx="2455920" cy="812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Humnst777 BT"/>
                <a:ea typeface="Arial"/>
              </a:rPr>
              <a:t>Demand sub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42880" y="4025880"/>
            <a:ext cx="2362320" cy="86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Transition</a:t>
            </a:r>
            <a:r>
              <a:rPr b="1" lang="pt-BR" sz="1600" spc="-1" strike="noStrike">
                <a:solidFill>
                  <a:srgbClr val="000000"/>
                </a:solidFill>
                <a:latin typeface="Humnst777 BT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poten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sub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865680" y="4025880"/>
            <a:ext cx="24382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Change</a:t>
            </a:r>
            <a:r>
              <a:rPr b="1" lang="pt-BR" sz="1600" spc="-1" strike="noStrike">
                <a:solidFill>
                  <a:srgbClr val="000000"/>
                </a:solidFill>
                <a:latin typeface="Humnst777 BT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allocation</a:t>
            </a:r>
            <a:r>
              <a:rPr b="1" lang="pt-BR" sz="1600" spc="-1" strike="noStrike">
                <a:solidFill>
                  <a:srgbClr val="000000"/>
                </a:solidFill>
                <a:latin typeface="Humnst777 BT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Humnst777 BT"/>
                <a:ea typeface="Arial"/>
              </a:rPr>
              <a:t>sub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38"/>
          <p:cNvGrpSpPr/>
          <p:nvPr/>
        </p:nvGrpSpPr>
        <p:grpSpPr>
          <a:xfrm>
            <a:off x="581040" y="1177920"/>
            <a:ext cx="2692440" cy="1352520"/>
            <a:chOff x="581040" y="1177920"/>
            <a:chExt cx="2692440" cy="1352520"/>
          </a:xfrm>
        </p:grpSpPr>
        <p:pic>
          <p:nvPicPr>
            <p:cNvPr id="149" name="Picture 7" descr=""/>
            <p:cNvPicPr/>
            <p:nvPr/>
          </p:nvPicPr>
          <p:blipFill>
            <a:blip r:embed="rId1"/>
            <a:srcRect l="0" t="13352" r="0" b="20043"/>
            <a:stretch/>
          </p:blipFill>
          <p:spPr>
            <a:xfrm>
              <a:off x="581040" y="1177920"/>
              <a:ext cx="2641680" cy="8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2"/>
            <a:srcRect l="0" t="13352" r="0" b="20043"/>
            <a:stretch/>
          </p:blipFill>
          <p:spPr>
            <a:xfrm>
              <a:off x="581040" y="1425600"/>
              <a:ext cx="2641680" cy="8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3"/>
            <a:srcRect l="0" t="13352" r="0" b="20043"/>
            <a:stretch/>
          </p:blipFill>
          <p:spPr>
            <a:xfrm>
              <a:off x="631800" y="1635120"/>
              <a:ext cx="2641680" cy="89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Picture 12" descr=""/>
          <p:cNvPicPr/>
          <p:nvPr/>
        </p:nvPicPr>
        <p:blipFill>
          <a:blip r:embed="rId4"/>
          <a:srcRect l="0" t="13352" r="0" b="20043"/>
          <a:stretch/>
        </p:blipFill>
        <p:spPr>
          <a:xfrm>
            <a:off x="6662880" y="4025880"/>
            <a:ext cx="2544480" cy="852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3"/>
          <p:cNvSpPr/>
          <p:nvPr/>
        </p:nvSpPr>
        <p:spPr>
          <a:xfrm>
            <a:off x="7044840" y="49068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Land use at </a:t>
            </a:r>
            <a:r>
              <a:rPr b="1" i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7"/>
          <p:cNvGrpSpPr/>
          <p:nvPr/>
        </p:nvGrpSpPr>
        <p:grpSpPr>
          <a:xfrm>
            <a:off x="3817800" y="5595840"/>
            <a:ext cx="2543040" cy="1198440"/>
            <a:chOff x="3817800" y="5595840"/>
            <a:chExt cx="2543040" cy="1198440"/>
          </a:xfrm>
        </p:grpSpPr>
        <p:pic>
          <p:nvPicPr>
            <p:cNvPr id="155" name="Picture 18" descr=""/>
            <p:cNvPicPr/>
            <p:nvPr/>
          </p:nvPicPr>
          <p:blipFill>
            <a:blip r:embed="rId5"/>
            <a:srcRect l="0" t="13352" r="0" b="20043"/>
            <a:stretch/>
          </p:blipFill>
          <p:spPr>
            <a:xfrm>
              <a:off x="3817800" y="5595840"/>
              <a:ext cx="254304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19"/>
            <p:cNvSpPr/>
            <p:nvPr/>
          </p:nvSpPr>
          <p:spPr>
            <a:xfrm>
              <a:off x="4014720" y="64260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Land use at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t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24"/>
          <p:cNvSpPr/>
          <p:nvPr/>
        </p:nvSpPr>
        <p:spPr>
          <a:xfrm>
            <a:off x="7315200" y="6099120"/>
            <a:ext cx="1216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Humnst777 BT"/>
                <a:ea typeface="Arial"/>
              </a:rPr>
              <a:t>Time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AutoShape 30"/>
          <p:cNvCxnSpPr>
            <a:stCxn id="145" idx="2"/>
            <a:endCxn id="147" idx="0"/>
          </p:cNvCxnSpPr>
          <p:nvPr/>
        </p:nvCxnSpPr>
        <p:spPr>
          <a:xfrm flipH="1">
            <a:off x="5083920" y="3311640"/>
            <a:ext cx="10440" cy="714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9" name="Text Box 31"/>
          <p:cNvSpPr/>
          <p:nvPr/>
        </p:nvSpPr>
        <p:spPr>
          <a:xfrm>
            <a:off x="5224320" y="3416400"/>
            <a:ext cx="1521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Humnst777 BT"/>
                <a:ea typeface="Arial"/>
              </a:rPr>
              <a:t>How mu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2"/>
          <p:cNvSpPr/>
          <p:nvPr/>
        </p:nvSpPr>
        <p:spPr>
          <a:xfrm>
            <a:off x="2886120" y="3963960"/>
            <a:ext cx="9907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Humnst777 BT"/>
                <a:ea typeface="Arial"/>
              </a:rPr>
              <a:t>W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AutoShape 33"/>
          <p:cNvCxnSpPr>
            <a:stCxn id="146" idx="3"/>
            <a:endCxn id="147" idx="1"/>
          </p:cNvCxnSpPr>
          <p:nvPr/>
        </p:nvCxnSpPr>
        <p:spPr>
          <a:xfrm>
            <a:off x="2905200" y="4455720"/>
            <a:ext cx="9612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2" name="AutoShape 34"/>
          <p:cNvCxnSpPr>
            <a:stCxn id="147" idx="2"/>
          </p:cNvCxnSpPr>
          <p:nvPr/>
        </p:nvCxnSpPr>
        <p:spPr>
          <a:xfrm>
            <a:off x="5084640" y="4889520"/>
            <a:ext cx="5760" cy="707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3" name="AutoShape 35"/>
          <p:cNvCxnSpPr>
            <a:endCxn id="153" idx="2"/>
          </p:cNvCxnSpPr>
          <p:nvPr/>
        </p:nvCxnSpPr>
        <p:spPr>
          <a:xfrm flipV="1">
            <a:off x="6219360" y="5272920"/>
            <a:ext cx="1653480" cy="7498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4" name="Text Box 39"/>
          <p:cNvSpPr/>
          <p:nvPr/>
        </p:nvSpPr>
        <p:spPr>
          <a:xfrm>
            <a:off x="961920" y="2549520"/>
            <a:ext cx="1521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Humnst777 BT"/>
                <a:ea typeface="Arial"/>
              </a:rPr>
              <a:t>Inpu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AutoShape 40"/>
          <p:cNvCxnSpPr>
            <a:endCxn id="145" idx="0"/>
          </p:cNvCxnSpPr>
          <p:nvPr/>
        </p:nvCxnSpPr>
        <p:spPr>
          <a:xfrm>
            <a:off x="3011400" y="2082600"/>
            <a:ext cx="2083680" cy="4165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6" name="AutoShape 41"/>
          <p:cNvCxnSpPr>
            <a:stCxn id="164" idx="2"/>
            <a:endCxn id="146" idx="0"/>
          </p:cNvCxnSpPr>
          <p:nvPr/>
        </p:nvCxnSpPr>
        <p:spPr>
          <a:xfrm>
            <a:off x="1722600" y="2927160"/>
            <a:ext cx="2160" cy="1099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7" name="AutoShape 42"/>
          <p:cNvCxnSpPr>
            <a:endCxn id="147" idx="3"/>
          </p:cNvCxnSpPr>
          <p:nvPr/>
        </p:nvCxnSpPr>
        <p:spPr>
          <a:xfrm flipH="1">
            <a:off x="6303240" y="4452840"/>
            <a:ext cx="500760" cy="5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0480" y="76320"/>
            <a:ext cx="90835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9" descr="transition_matrix"/>
          <p:cNvPicPr/>
          <p:nvPr/>
        </p:nvPicPr>
        <p:blipFill>
          <a:blip r:embed="rId1"/>
          <a:stretch/>
        </p:blipFill>
        <p:spPr>
          <a:xfrm>
            <a:off x="4695840" y="4275000"/>
            <a:ext cx="4419720" cy="18669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0"/>
          <p:cNvSpPr/>
          <p:nvPr/>
        </p:nvSpPr>
        <p:spPr>
          <a:xfrm>
            <a:off x="4924440" y="61707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Transition Matrix (Markov ch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1"/>
          <p:cNvGrpSpPr/>
          <p:nvPr/>
        </p:nvGrpSpPr>
        <p:grpSpPr>
          <a:xfrm>
            <a:off x="662040" y="4143240"/>
            <a:ext cx="3371400" cy="2861280"/>
            <a:chOff x="662040" y="4143240"/>
            <a:chExt cx="3371400" cy="2861280"/>
          </a:xfrm>
        </p:grpSpPr>
        <p:pic>
          <p:nvPicPr>
            <p:cNvPr id="172" name="Picture 32" descr=""/>
            <p:cNvPicPr/>
            <p:nvPr/>
          </p:nvPicPr>
          <p:blipFill>
            <a:blip r:embed="rId2"/>
            <a:stretch/>
          </p:blipFill>
          <p:spPr>
            <a:xfrm>
              <a:off x="662040" y="4143240"/>
              <a:ext cx="3371400" cy="220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33"/>
            <p:cNvSpPr/>
            <p:nvPr/>
          </p:nvSpPr>
          <p:spPr>
            <a:xfrm>
              <a:off x="1116720" y="6300720"/>
              <a:ext cx="2885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Global economic mod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4"/>
          <p:cNvGrpSpPr/>
          <p:nvPr/>
        </p:nvGrpSpPr>
        <p:grpSpPr>
          <a:xfrm>
            <a:off x="604800" y="1287360"/>
            <a:ext cx="3715920" cy="2884680"/>
            <a:chOff x="604800" y="1287360"/>
            <a:chExt cx="3715920" cy="2884680"/>
          </a:xfrm>
        </p:grpSpPr>
        <p:pic>
          <p:nvPicPr>
            <p:cNvPr id="175" name="Picture 35" descr=""/>
            <p:cNvPicPr/>
            <p:nvPr/>
          </p:nvPicPr>
          <p:blipFill>
            <a:blip r:embed="rId3"/>
            <a:stretch/>
          </p:blipFill>
          <p:spPr>
            <a:xfrm>
              <a:off x="604800" y="1287360"/>
              <a:ext cx="371592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36"/>
            <p:cNvSpPr/>
            <p:nvPr/>
          </p:nvSpPr>
          <p:spPr>
            <a:xfrm>
              <a:off x="1519200" y="346824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Trend analy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7"/>
          <p:cNvGrpSpPr/>
          <p:nvPr/>
        </p:nvGrpSpPr>
        <p:grpSpPr>
          <a:xfrm>
            <a:off x="5229360" y="1287360"/>
            <a:ext cx="3237840" cy="2870280"/>
            <a:chOff x="5229360" y="1287360"/>
            <a:chExt cx="3237840" cy="2870280"/>
          </a:xfrm>
        </p:grpSpPr>
        <p:sp>
          <p:nvSpPr>
            <p:cNvPr id="178" name="Text Box 38"/>
            <p:cNvSpPr/>
            <p:nvPr/>
          </p:nvSpPr>
          <p:spPr>
            <a:xfrm>
              <a:off x="5900040" y="3453840"/>
              <a:ext cx="2343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Building Scenar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39" descr=""/>
            <p:cNvPicPr/>
            <p:nvPr/>
          </p:nvPicPr>
          <p:blipFill>
            <a:blip r:embed="rId4"/>
            <a:stretch/>
          </p:blipFill>
          <p:spPr>
            <a:xfrm>
              <a:off x="5229360" y="1287360"/>
              <a:ext cx="3237840" cy="204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Rectangle 2"/>
          <p:cNvSpPr/>
          <p:nvPr/>
        </p:nvSpPr>
        <p:spPr>
          <a:xfrm>
            <a:off x="739800" y="4046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R Andrade Nt</cp:lastModifiedBy>
  <cp:lastPrinted>2012-10-26T17:22:49Z</cp:lastPrinted>
  <dcterms:modified xsi:type="dcterms:W3CDTF">2020-09-04T18:02:11Z</dcterms:modified>
  <cp:revision>417</cp:revision>
  <dc:subject/>
  <dc:title>Low-carbon growth in Brazil?</dc:title>
</cp:coreProperties>
</file>